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3B28-28B7-4EC5-9A3A-5F3F6855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212-716D-4A8F-9FCC-536295EF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871-5A4C-4421-B7BD-1495908B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B38-97E4-4239-B047-A9E6C488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7D0-9AF5-4941-AC66-81C70C3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FBA-CE5F-4F68-BB7B-211AC1B5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CA3-FA43-4E58-8582-2EEEAE50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5AE-840D-4F0A-BCFE-0D79FE75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6CA-1D58-49C3-8703-C4A7F1E6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BFF-22D9-4E00-A2BF-9DB73A5F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4F1-DDC5-4036-92B0-AA28598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988-AA70-42DE-9BD4-7EA38CE5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D0E8-C0FF-4BCD-A3DC-F8356E50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2680" y="152280"/>
            <a:ext cx="5983200" cy="152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600" y="1941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3429000" cy="45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2374920"/>
            <a:ext cx="80010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756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14600" y="41911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4191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34520" y="4191120"/>
            <a:ext cx="3808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45720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35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5029200"/>
            <a:ext cx="7621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6:41:25Z</dcterms:created>
  <dc:creator>Graham</dc:creator>
  <dc:description/>
  <dc:language>en-US</dc:language>
  <cp:lastModifiedBy>Graham</cp:lastModifiedBy>
  <dcterms:modified xsi:type="dcterms:W3CDTF">2012-08-08T12:20:39Z</dcterms:modified>
  <cp:revision>2</cp:revision>
  <dc:subject/>
  <dc:title>Slide 1</dc:title>
</cp:coreProperties>
</file>